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A855-E934-4F30-8C4A-808D634C4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C76-DE3D-42FD-A824-2B284068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5B4-29AA-4882-8C90-89A68022A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60701-C2C5-4F47-B8C4-BDEAEF392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793E3-8F69-4A15-A055-E4868DD45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B7991-68BA-4E5E-882A-4320FD1A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AC30-1A21-43E8-88E6-1BE20782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7B3D-EFD0-4164-A7C1-48E5DF6C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A53-13FE-487F-8461-2324A6F8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12CDD-4803-402F-A639-26935CA28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2AD6-C11D-45DA-8DF3-1C6549401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C930-BA60-463F-8455-F1B345F63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8A05-93F7-462B-95E1-237F3EFB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527E-F50D-4ABA-A92F-6DA07DAF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7772-8A16-4FA9-9DB8-94A2AE4D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60D33-A869-4087-A49B-68C42046B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EE8DC-1AC5-47E9-B0B4-800807D31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893CD-DF2F-423F-B7A6-F5D8DEA1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3E97E-AFE7-4904-A4C7-2683C0777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11832D-FE30-4334-8C23-6A923C22E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5B47E-B1C7-4992-AA09-2388EB5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76D6F-C652-4F93-AA07-51FE5319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5CBF-4213-4451-A586-205D84594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D76F5-DB4A-4A56-89A2-01605A09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54BC3-0942-40DB-AFA0-11E53654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7AA17-7C07-4820-9B9B-861122362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6E0C-EC94-433E-B2DA-E7D2711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7B43C-2830-4CA5-985F-289F0595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FC5C9-F458-4009-9C6F-92B2A4A2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0778E-1E9E-4829-9C55-D38EE2471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F5BBF1-BB6F-42A8-AF71-A645C8AB2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8F0BCD-863D-4749-9713-555307C7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43433-5E7D-46FB-A110-9099125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B32D-9134-43B7-8A4E-9E13E3D0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7920C-3D49-4CE3-9DF4-7282217E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F22E1-CFDB-423C-B33F-7C898D91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7BA79-7669-42AF-BE6A-AADA0F3DD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5650F-3DCA-4B89-B1CC-B49C6789E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318CC6-4AF0-4BEF-BD94-3E436AFE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1C81D-2069-4CA5-A560-F6EF2679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7A452D-4BC4-43F8-A2A8-3F7CD1B8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214AFC-A6F6-4AC5-907C-FC168177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5AAE2-1676-4D11-B0C2-F8381058C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251-5D6A-430B-BA4C-FD6A5042A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43B4-C800-4161-A90E-E7F7DD58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C363-AD2E-4FE6-AA45-2F3248F42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35DF-A95D-4712-B08D-D82F08E4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EE61-0132-4590-AB70-FABCF9C2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2440" y="6066000"/>
            <a:ext cx="7935840" cy="547560"/>
            <a:chOff x="622440" y="6066000"/>
            <a:chExt cx="7935840" cy="54756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2440" y="6066000"/>
              <a:ext cx="793584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68520"/>
              <a:ext cx="7921800" cy="5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5180C-76DA-4D06-A0A7-7B33A5B27D58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84160" y="5614920"/>
            <a:ext cx="7394760" cy="547920"/>
            <a:chOff x="884160" y="5614920"/>
            <a:chExt cx="7394760" cy="54792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84160" y="5614920"/>
              <a:ext cx="73947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720" y="5617800"/>
              <a:ext cx="738180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DAA73-666C-4DDF-B83F-7487828CA0D7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2CF1-381F-45FE-B846-B8984249DD0B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5440" cy="6858000"/>
              <a:chOff x="0" y="0"/>
              <a:chExt cx="716544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544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"/>
              <p:cNvSpPr/>
              <p:nvPr/>
            </p:nvSpPr>
            <p:spPr>
              <a:xfrm>
                <a:off x="5760" y="5760"/>
                <a:ext cx="7153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4440" y="0"/>
              <a:ext cx="7999560" cy="6858000"/>
              <a:chOff x="1144440" y="0"/>
              <a:chExt cx="799956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4440" y="0"/>
                <a:ext cx="799956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"/>
              <p:cNvSpPr/>
              <p:nvPr/>
            </p:nvSpPr>
            <p:spPr>
              <a:xfrm>
                <a:off x="1147320" y="5760"/>
                <a:ext cx="7990560" cy="684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28560" y="6053040"/>
            <a:ext cx="7729560" cy="549360"/>
            <a:chOff x="628560" y="6053040"/>
            <a:chExt cx="7729560" cy="54936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28560" y="6053040"/>
              <a:ext cx="7729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1440" y="6058080"/>
              <a:ext cx="7721640" cy="53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00000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65e9c"/>
                </a:solidFill>
                <a:latin typeface="Rage Ital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E0D74-3F0E-417D-8ECA-BC03E45940BC}" type="slidenum">
              <a:rPr b="0" lang="ru-RU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28800" y="714240"/>
            <a:ext cx="7200720" cy="338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«Первый раз в первый класс,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или что нужно знать и уметь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будущему первокласснику»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539640" y="5084640"/>
            <a:ext cx="5711760" cy="11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65e9c"/>
                </a:solidFill>
                <a:latin typeface="Arial"/>
              </a:rPr>
              <a:t>ПОРТРЕТ БУДУЩЕГО ПЕРВОКЛАСС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Объект 10" descr=""/>
          <p:cNvPicPr/>
          <p:nvPr/>
        </p:nvPicPr>
        <p:blipFill>
          <a:blip r:embed="rId1"/>
          <a:stretch/>
        </p:blipFill>
        <p:spPr>
          <a:xfrm>
            <a:off x="5429160" y="4071960"/>
            <a:ext cx="3200400" cy="24843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nstantia"/>
              </a:rPr>
              <a:t>Подготовка ребенка к школе: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999720" y="200016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изическая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сихологическая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ая 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теллектуальная гото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моционально-волев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тов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Объект 12" descr=""/>
          <p:cNvPicPr/>
          <p:nvPr/>
        </p:nvPicPr>
        <p:blipFill>
          <a:blip r:embed="rId1"/>
          <a:stretch/>
        </p:blipFill>
        <p:spPr>
          <a:xfrm>
            <a:off x="5715000" y="1928880"/>
            <a:ext cx="2571840" cy="30160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28800" y="642960"/>
            <a:ext cx="69660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1. Социальное развитие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900000" y="1773360"/>
            <a:ext cx="73440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1. Ребёнок спокойно идёт на контакт со взрослыми и сверстниками, знает правила общения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2. Управляет своим поведением, знает, что можно, а что нельзя, неагрессивен, недрачлив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3. Умеет общаться со взрослыми, тактичен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4. Хорошо адаптируется к новой обстановке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5. Умеет различать отношение и настроение взрослого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6. Не избегает общения.</a:t>
            </a:r>
            <a:r>
              <a:rPr b="0" lang="en-US" sz="26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27416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nstantia"/>
              </a:rPr>
              <a:t>2. Организация деятельности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71280" y="1412640"/>
            <a:ext cx="6243480" cy="47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Может планировать свою деятель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Выполняет задание до конц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Находит и исправляет ошибки в работе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Может сосредоточенно, не отвлекаясь выполнять задание 10 минут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е торопится, не суетится, не требует постоянного внимания взрослых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При неудаче не сердится, принимает помощь взрослых, с подсказкой выполняет задание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. Не отказывается от заданий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Объект 7" descr=""/>
          <p:cNvPicPr/>
          <p:nvPr/>
        </p:nvPicPr>
        <p:blipFill>
          <a:blip r:embed="rId1"/>
          <a:stretch/>
        </p:blipFill>
        <p:spPr>
          <a:xfrm>
            <a:off x="6929280" y="3286080"/>
            <a:ext cx="2000520" cy="27860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43000" y="713880"/>
            <a:ext cx="6966000" cy="12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3. Речевое развитие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900000" y="1915920"/>
            <a:ext cx="7056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ебёнок правильно произносит звуки родного языка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Может выделить звук в начале, середине и конце слова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бладает словарным запасом, позволяющим выразить мысль, описать событие, задать вопрос и ответить на него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Правильно использует предлоги, строит предложения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Может самостоятельно рассказать сказку или составить рассказ по картинке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В речи нет незаконченных предложений, не связанных между собой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7. Передаёт интонацией различные чувства. 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71360" y="785880"/>
            <a:ext cx="69656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4. Развитие движений и пространственная ориентация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71640" y="2133360"/>
            <a:ext cx="7416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ебёнок уверенно действует в быту: ест вилкой, ложкой, одевается, раздевается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Хорошо ориентируется в пространстве (способен выполнить движения руками, ногами, туловищем вперёд, назад, вверх, вниз, налево, направо)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Не испытывает затруднения при работе с мозаикой, хорошо манипулирует мелкими деталям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Лепит.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Не испытывает затруднений при рисовании, выполнении графических движений (умение чертить вертикальные и горизонтальные линии, рисовать круг, квадрат, треугольник)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5. Зрительно – пространственное восприятие и зрительно-моторные координации.</a:t>
            </a:r>
            <a:r>
              <a:rPr b="1" lang="en-US" sz="3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826920" y="2349000"/>
            <a:ext cx="76327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1. Ребёнок различает и отличает фигуры, буквы, цифры,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2. Классифицирует фигуры по форме, размерам и другим признакам.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3. Различает расположение фигур (над-под, на-за, перед-возле, сверху-снизу)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4. Срисовывает простые геометрические фигуры, а также сочетания фигур, пересекающиеся линии, соблюдая размеры, соотношение и направление всех штрихов и элементов.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5. Копирует буквы, цифры, соблюдая размеренность и направление элементов.</a:t>
            </a:r>
            <a:r>
              <a:rPr b="0" lang="en-US" sz="25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500"/>
            </a:b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6966000" cy="12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6. Личностное развитие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99640" y="1557360"/>
            <a:ext cx="7488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тремится установить и сохранить позитивные отношения в ходе общения со взрослыми, и со сверстникам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Может заниматься, учиться, а не только играть. Может работать самостоятельно, не нужно присутствия взрослого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Стремится к успеху в тех простых видах деятельности, которые выполняет, способен достаточно объективно оценить результат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ожет дифференцировать «что такое хорошо и что такое плохо», оценивать свои поступки, но сама оценка во многом зависит от мнения взрослого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Проявляет познавательный интерес к новым видам деятельности, к миру взрослых и т.п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Стремиться к личным достижениям, самоутверждению, признанию (я уже знаю, умею…)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28400" y="428760"/>
            <a:ext cx="696564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onstantia"/>
              </a:rPr>
              <a:t>7. Здоровье</a:t>
            </a:r>
            <a:r>
              <a:rPr b="1" lang="en-US" sz="44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899640" y="1628280"/>
            <a:ext cx="74883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Ребёнок не подвержен часты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студным заболеваниям (3-4 раза в год)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Спокоен, усидчив, нераздражителен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Хорошо засыпает и спокойно спит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Не подвержен страхам (не боится темноты, одиночества)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В поведении отсутствуют навязчивые движения (подёргивание, моргание)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. В речи нет выраженных задержек в развитии.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Объект 20" descr=""/>
          <p:cNvPicPr/>
          <p:nvPr/>
        </p:nvPicPr>
        <p:blipFill>
          <a:blip r:embed="rId1"/>
          <a:stretch/>
        </p:blipFill>
        <p:spPr>
          <a:xfrm>
            <a:off x="6215040" y="714240"/>
            <a:ext cx="1933560" cy="22575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onstantia"/>
              </a:rPr>
              <a:t>8. Развитие внимания и памяти</a:t>
            </a:r>
            <a:r>
              <a:rPr b="1" lang="en-US" sz="40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6920" y="1988640"/>
            <a:ext cx="749016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Ребёнок удерживает внимание в течение 10 минут, не отвлекается, даже если деятельность ему не интересна (или трудна)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Для концентрации внимания в течение 10-15 минут не требуется дополнительных инструкций, внешней организаци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Переключается с одного вида деятельности на другой, не отвлекается на внешние раздражител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4. Может запоминать 10 не связанных между собой слов при 3-4 кратном повторени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5. Правильно запоминает 10-12 слов при подкреплении наглядными образами.</a:t>
            </a:r>
            <a:r>
              <a:rPr b="0" lang="en-US" sz="2200" spc="-1" strike="noStrike">
                <a:solidFill>
                  <a:srgbClr val="000000"/>
                </a:solidFill>
                <a:latin typeface="Franklin Gothic Book"/>
              </a:rPr>
              <a:t> 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6. После нескольких повторений запоминает стихотворение в 4-8 строк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13:26:00Z</dcterms:created>
  <dc:creator>Учитель</dc:creator>
  <dc:description/>
  <dc:language>en-US</dc:language>
  <cp:lastModifiedBy>Admin</cp:lastModifiedBy>
  <dcterms:modified xsi:type="dcterms:W3CDTF">2013-05-05T18:45:24Z</dcterms:modified>
  <cp:revision>21</cp:revision>
  <dc:subject/>
  <dc:title>«Первый раз в первый класс, или что нужно знать и уметь будущему первокласснику»</dc:title>
</cp:coreProperties>
</file>